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C5C-EC0B-446B-89D1-8B465FB8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7460-D180-4DD3-92D7-F4D8F058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C56-9793-47B4-ADF1-A0E7584F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222-C934-4D0C-8D2B-85530889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5CAD-1028-444C-9D08-361BECDA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CD4D-B201-49F4-B53A-BFD43B9B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C460-988C-4318-B818-540DCD99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6862-74DB-4F62-B10D-163A17E9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024E-BEB7-4CE0-8FD1-014CBADF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1882-8A0D-4312-A909-F3BEBE4E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E279-EA0B-4FB0-8E94-3D04CE4F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04E-D074-460C-ABBD-D0FC4203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7B0F-168C-4739-BA70-8FE6A754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26D6-4F49-4144-A60C-9EB361E4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31C0-2A04-4A5B-B7A6-68AF7954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C964-4175-4129-B9DD-FD5F301E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9433-3A94-4910-8997-1F34E820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82A89-A42D-4EC2-8089-5AD8F269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F09B9-0C86-485E-96EE-8EE9916C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65E75-A9EA-43EF-8127-CE64981B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43692-2BF4-4BDC-A7A4-C807A8E6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293D9-BDD3-46A0-B016-793CCAFC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632-0426-46B6-86D6-7B05EB4F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24C97-2FB4-410C-A350-76D49224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556DE-7BB1-4B2C-AC62-218D9BBA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1A4A5-ED81-4EEB-A32C-EFAFA030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EAE01-6915-4A8F-A0FF-780AC62F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27B26-91E2-4B59-A23F-1F21BF19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542F-9D86-4599-AADD-AE0944B4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EDA1B-11BE-4EA4-821B-3F6E38F0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E61E4-C125-45D0-8F7F-19D98391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D6E12-DC66-4B15-A4F3-8439718B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5339-1A2E-4CDF-848E-41CA8BA7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81C-23C8-4C71-96A9-B102CE76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CDA4E-D8DC-4DB8-8A47-03AD85A9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6845C-3260-4CC9-88C3-63E56CF1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2035A-9BCA-427A-A5CD-84CB3A8D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0A642-FB93-4996-91EE-B3EC2B69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9F389-478A-475F-9E31-69014AD3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E8FB8-97AC-47BD-800F-558B11FE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7B143-7E58-4A16-837F-F4ABFD8C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2A014-92A6-476B-BD22-551AE737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F4319-20EB-432B-A0AF-DDDFC064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01670-8D0A-4F95-9667-2E719187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5BD-FD11-4B6C-A242-0E7B5CAD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CE516-D9CC-4FF9-85F1-C9169F92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5489A-474E-4D9E-BCD9-1A41E531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BE101-87FB-44B7-A516-E76A09F5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76826-8210-49BC-B125-1030D0B4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FA49D-8782-4EB4-9A0B-E69BD22D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8EC43-616D-4693-A3C9-68F6AD7A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8DD2A-93D0-495B-BAA2-2CB7A7D2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76E8A-9FB6-4FB1-AEED-FDC9167A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59C03-11FB-41D9-A28B-5EEF145A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B6FFA-A27B-4D24-9379-FAC66228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1AA-0006-49E5-99E5-E866ED17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66EB9-563B-4666-A69D-FC7735A9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88BE9-C585-4AA4-91E2-28BE518F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0D728-609A-4923-9EF7-BE2638FB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65DB7-F661-4070-B72E-339482C3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F6DBD-5E81-4AC6-92D5-FF1A3F5A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81631-F1C0-4319-9CD5-5DC92DC7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192D9-B640-4EA2-B8DD-D92C6A1B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16C50-9C83-4925-A905-94B45796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0C710-5BC9-489C-9317-9AEE5663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FC29C-5418-4098-A550-D3F9990E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75A-15E5-4E96-B191-BCE5811E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92FB7-4C31-4AD9-864C-DB14F968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D3702-6AC7-4749-9B4D-87544770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8E792-0F50-4919-BCB7-3594B932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B27-0571-4DB3-BE5C-11C3A126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476-9450-452C-97FF-8B325624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5a5a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2f2f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5bd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468A-3993-4D22-8854-A2C3DAD4EFE9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41"/>
            </a:gs>
            <a:gs pos="100000">
              <a:srgbClr val="909090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5a5a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2f2f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5bd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2A7F-BC56-40F9-A8E7-5DAE706F1978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41"/>
            </a:gs>
            <a:gs pos="100000">
              <a:srgbClr val="909090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5a5a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2f2f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5bd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2B42-941C-4D40-AE4E-FABCF1E42DB9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5a5a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2f2f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5bd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E526-EF9D-4B3A-A661-BD6660F24F90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5a5a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2f2f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5bd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B25C-182A-4125-A48E-057EC4671DD1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5a5a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2f2f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5bd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AE64-3FAE-4818-BA5C-4A4C424395D4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"/>
          <p:cNvPicPr/>
          <p:nvPr/>
        </p:nvPicPr>
        <p:blipFill>
          <a:blip r:embed="rId1"/>
          <a:srcRect l="23960" t="38718" r="50653" b="29169"/>
          <a:stretch/>
        </p:blipFill>
        <p:spPr>
          <a:xfrm>
            <a:off x="1143000" y="214200"/>
            <a:ext cx="6215040" cy="58960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1500120" y="614376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Subject cans [ all money that you win is not reality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Do aluminium beverage cans corroded easil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. y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. 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85720" y="249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. y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What are aluminium cans commonly used for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. Door hand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. Foods and bevera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. Oils and chemic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D. A computer scre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57160" y="25714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B. Foods and beverage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d the use of aluminum in cans begin in 1957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A. tr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B. Fals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643120" y="2785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A. True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Congratulations on finishing this millionaire quiz if you got 100% you can go around telling people that you are an official aluminium can expert and tell them that you won a million dollars [ this is fake money] if you get more then 4 right you can ask your parents to buy you a chocolate bar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Franklin Gothic Book"/>
              </a:rPr>
              <a:t>Recycling aluminum cans reduce what percentage of energy</a:t>
            </a: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A. 1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B. 2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C. 4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D.95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47640" y="2852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D.95%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ff"/>
                </a:solidFill>
                <a:latin typeface="Franklin Gothic Book"/>
              </a:rPr>
              <a:t>How much energy is saved by recycling 1 ton of aluminium cans?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A. typical home over 10 yea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B. a roller coaster r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C.  A ice-cream c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D.  A compu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280" y="2852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ff"/>
                </a:solidFill>
                <a:latin typeface="Franklin Gothic Book"/>
              </a:rPr>
              <a:t>A. A typical home over 10 years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ff"/>
                </a:solidFill>
                <a:latin typeface="Franklin Gothic Book"/>
              </a:rPr>
              <a:t>how many cans do you need to make an aeroplane 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4,704,000 ca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B. 1 c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C. 1000 ca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D.1,000,000,000,000 cans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5714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. 4,704,000 ca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How many aluminium cans are made in Australia in a year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9680" y="22147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. 50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.100,0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. Over 3 bill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D. Over 4 mill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71440" y="249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. Over 3 bill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23:23:58Z</dcterms:created>
  <dc:creator>mslatercarter</dc:creator>
  <dc:description/>
  <dc:language>en-US</dc:language>
  <cp:lastModifiedBy>mslatercarter</cp:lastModifiedBy>
  <dcterms:modified xsi:type="dcterms:W3CDTF">2011-08-04T23:31:30Z</dcterms:modified>
  <cp:revision>10</cp:revision>
  <dc:subject/>
  <dc:title>Slide 1</dc:title>
</cp:coreProperties>
</file>