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121-6A44-4E10-A56A-67C1007F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EF3-2A4B-418A-B0AA-0F3646A0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C650-0CF0-487B-A551-81A58703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5DA-062B-42E8-991B-685F379E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CD4D-D522-457A-9778-AF9C6E98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EDC9-DCC6-405C-8819-F1A290BF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A29F-64E0-49A0-AF2E-AA688AA9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1AD6-8BD2-41F1-8B02-D0287EAE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8E8B-B750-4546-9C11-BEF42416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4828-3211-498F-98F1-235C16C9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BCA6-92B9-4C1E-8D0B-C95ED946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BE7-2E16-4745-BB3A-810099BB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0C0E-9295-477E-A12E-F038F39E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A7EA-5904-4A95-A411-1A3E5DB1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F097-0396-4C68-A501-08A73FE2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2DFA-291B-4FBA-9042-FFEAFF28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11A9-F69C-4DAA-982E-91CC3CE6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B7E16-D4F7-465A-8496-A73271D6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73AD-F9F4-45D9-B8E9-D7A90B95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EB3AF-6B8D-4203-8835-7D8C46C5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978F9-B6C8-4262-BD61-B61F7CDB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8D81-1C8B-4BB7-8DC2-AC737D64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3CD-8143-46B0-9870-28EFEDBD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5CFA-F4AC-47CB-88B0-9721B28F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32758-B02B-4D74-A731-C803328B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545BF-96EA-4D63-B6CB-B4A54C3F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9E3E-E495-4DD7-85A0-2C393DDE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44388-F0C7-470B-8BAA-07B78614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C17EA-6240-4D8C-A7F9-04ADAF7D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68227-B17C-440C-8376-33B10B40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243C0-08C6-466B-B9EC-84BFCEA3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62E28-7DF9-41DF-88A3-8566FEA6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77503-D741-456F-AD4F-7107E2EA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16B-8874-4966-9F7B-6AF55E9A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1AA65-4251-4DF7-940E-856080A2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30153-408A-431B-905B-BEBBA7CE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14B7B-88C3-4E33-B218-96A827E8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56E06-6CB6-4214-AABF-2437975B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EA06E-2F23-4172-811A-7B9C2ACD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AF46A-47E2-47AB-BF51-AC1CA726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9CE62-98BC-401C-A0BD-2A86CA94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F46C0-7FA0-467D-A193-7796520F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C460B-8E4F-4849-A4D5-3751980F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6CF5F-9DF8-4B41-ABD1-D00BEFBE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E4B-95A2-4FF0-862B-D6DD684E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EF5FC-198B-403B-9A29-2E508520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3B79C-A8B3-4E70-9E4C-20C11D66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89AF2-B923-4873-9C66-E7B95482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2842B-F55E-41C7-AF76-D3287852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FC652-A30E-4D3D-8CDD-9A113BC5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831F4-4D7B-44A4-83A8-2F66E1D6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2DE8C-5B59-4CD6-BD60-A7946965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A4F98-FFEC-43FA-B9C4-7D2FE42D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A7840-2A7B-4132-9D38-9EDDDE65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6B779-98FA-4962-BEC9-B154B354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1A08-FD45-47E9-AF68-4BA8D961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61ECE-C9E9-4276-B311-696C03D6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4F8C1-EAE6-4B66-90C9-5F45FBE8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FE741-1614-40FD-8131-CC714518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F1BB8-1312-4506-8597-ECF77F74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E1000-A64D-4E4B-ACDF-B5EE797D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D01E1-1226-472E-AD8E-3F36CFA1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7CCEE-FC7B-4C1F-BF8E-1BA4BB2D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3DBE8-928B-4D08-B0CF-B6DA359B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6C480-E67A-44CA-9AB1-D5B82F99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BE30A-F67D-40AE-BC94-7ECFB3D7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988-94FB-4843-A1AF-44EEF60D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CAA8F-C22C-46C4-B3BB-48F89243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C4530-FD3D-4513-B0EC-85A09970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9251B-8C7D-4F09-89DF-37CE2D34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FAD-61AF-40EA-89C5-1B24F724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E9C-2235-4B13-B050-2821420D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5a5a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2f2f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5bd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B365-0D76-4633-88DA-DA198BFAFB05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41"/>
            </a:gs>
            <a:gs pos="100000">
              <a:srgbClr val="909090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5a5a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2f2f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5bd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AC19-B299-4CC3-90B2-E717F35D369C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41"/>
            </a:gs>
            <a:gs pos="100000">
              <a:srgbClr val="909090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5a5a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2f2f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5bd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F665-F968-4B3C-A975-22E7350B7560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5a5a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2f2f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5bd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55B0-25E8-4556-AB15-44EE4A8C408B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5a5a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2f2f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5bd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5FDB-9BC7-4078-9469-DD349638FB37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5a5a5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2f2f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005bd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CAE8-C446-4864-B48F-CB872AADD6C2}" type="slidenum">
              <a:rPr b="0" lang="en-US" sz="10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"/>
          <p:cNvPicPr/>
          <p:nvPr/>
        </p:nvPicPr>
        <p:blipFill>
          <a:blip r:embed="rId1"/>
          <a:srcRect l="23960" t="38718" r="50653" b="29169"/>
          <a:stretch/>
        </p:blipFill>
        <p:spPr>
          <a:xfrm>
            <a:off x="1143000" y="214200"/>
            <a:ext cx="6215040" cy="58960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1500120" y="614376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Subject cans [ all money that you win is not reality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Do aluminium beverage cans corroded easil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. y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. 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85720" y="249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. y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What are aluminium cans commonly used for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. Door hand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. Foods and bevera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. Oils and chemic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D. A computer scre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57160" y="25714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B. Foods and beverages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Did the use of aluminum in cans begin in 1957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A. tr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B. Fals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643120" y="2785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A. True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Congratulations on finishing this millionaire quiz if you got 100% you can go around telling people that you are an official aluminium can expert and tell them that you won a million dollars [ this is fake money] if you get more then 4 right you can ask your parents to buy you a chocolate bar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Franklin Gothic Book"/>
              </a:rPr>
              <a:t>Recycling aluminum cans reduce what percentage of energy</a:t>
            </a:r>
            <a:endParaRPr b="0" lang="en-US" sz="3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A. 1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B. 2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C. 4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D.95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47640" y="2852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600" spc="-1" strike="noStrike">
                <a:solidFill>
                  <a:srgbClr val="ffffff"/>
                </a:solidFill>
                <a:latin typeface="Franklin Gothic Book"/>
              </a:rPr>
              <a:t>D.95%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ff"/>
                </a:solidFill>
                <a:latin typeface="Franklin Gothic Book"/>
              </a:rPr>
              <a:t>How much energy is saved by recycling 1 ton of aluminium cans?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A. typical home over 10 yea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B. a roller coaster r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C.  A ice-cream c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D.  A compu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55280" y="2852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ff"/>
                </a:solidFill>
                <a:latin typeface="Franklin Gothic Book"/>
              </a:rPr>
              <a:t>A. A typical home over 10 years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200" spc="-1" strike="noStrike">
                <a:solidFill>
                  <a:srgbClr val="ffffff"/>
                </a:solidFill>
                <a:latin typeface="Franklin Gothic Book"/>
              </a:rPr>
              <a:t>how many cans do you need to make an aeroplane 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0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4,704,000 ca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B. 1 c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C. 1000 ca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D.1,000,000,000,000 cans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5714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. 4,704,000 ca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How many aluminium cans are made in Australia in a year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9680" y="22147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. 50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.100,0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. Over 3 bill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D. Over 4 mill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71440" y="249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. Over 3 bill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23:23:58Z</dcterms:created>
  <dc:creator>mslatercarter</dc:creator>
  <dc:description/>
  <dc:language>en-US</dc:language>
  <cp:lastModifiedBy>mslatercarter</cp:lastModifiedBy>
  <dcterms:modified xsi:type="dcterms:W3CDTF">2011-08-04T23:31:30Z</dcterms:modified>
  <cp:revision>10</cp:revision>
  <dc:subject/>
  <dc:title>Slide 1</dc:title>
</cp:coreProperties>
</file>